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CA847-85E6-44FE-9FE1-A6A770019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599DA-240F-4A82-9B16-98BFED872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E0006-4414-4692-B0A7-5336A9A40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FA5F8-164B-4DE8-B21A-8CA72C117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98080-235B-4D64-AC73-1FDA1E919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B552F-BC78-4762-8E93-397B5EF48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AD12F-ECFE-458B-A260-F11883C75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0EF02-DE0B-4CF8-98C5-093E672DD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5F778-93AF-451F-871E-7870B29B3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62C27-D79F-44EA-94FC-57921F96B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DF207-EAFE-45D6-910E-A8B703018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CECAB-B7C0-4FCF-8CCA-DEA35D0E8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8C7FA-1C98-4899-8BB9-5A65C1847C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psychodelirium.com/images/anger.jpg&amp;imgrefurl=http://www.psychodelirium.com/&amp;usg=__30CMyzPvYTE1qqisGJc8Mmxy81E=&amp;h=270&amp;w=200&amp;sz=12&amp;hl=en&amp;start=12&amp;um=1&amp;itbs=1&amp;tbnid=qpdXi8Uylh2vMM:&amp;tbnh=113&amp;tbnw=84&amp;prev=/images%3Fq%3Dcauses%2Bof%2Bpsychological%2Bdisorders%26hl%3Den%26safe%3Dactive%26sa%3DN%26um%3D1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609480"/>
            <a:ext cx="6400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Psychological Disorder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(Abnormal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at is the definitio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ypic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Maladaptiv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Emotional Discomfo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ocially Unacceptable Behavi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issociative identity Disord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istence of 2 or more personalities within a single individua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person undesirable urges by developing other personalities that can take reasonability for the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personalization disord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eelings of detachment from one’s mental process or body. They feel as if they are outside their bod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person goes outside the self, away from the turmoil withi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matoform Disord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37339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matofor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 rot="20449800">
            <a:off x="490680" y="2296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Franklin Gothic Heavy"/>
              </a:rPr>
              <a:t>Somatoform disorder is a mental disorder characterized by physical symptoms that mimic physical disease or injury for which there is no identifiable physical caus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3"/>
          <p:cNvSpPr/>
          <p:nvPr/>
        </p:nvSpPr>
        <p:spPr>
          <a:xfrm rot="20688600">
            <a:off x="4721760" y="4648320"/>
            <a:ext cx="4267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Franklin Gothic Heavy"/>
              </a:rPr>
              <a:t>Lady from radio lab who could not sing after her husband left 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4"/>
          <p:cNvSpPr/>
          <p:nvPr/>
        </p:nvSpPr>
        <p:spPr>
          <a:xfrm rot="20508600">
            <a:off x="761040" y="1676520"/>
            <a:ext cx="289548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efi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5"/>
          <p:cNvSpPr/>
          <p:nvPr/>
        </p:nvSpPr>
        <p:spPr>
          <a:xfrm rot="20733000">
            <a:off x="5714640" y="4191120"/>
            <a:ext cx="175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u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amily stres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elieved to be one of the most common causes of somatoform disorders in children and adolescent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iological Fac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ertain people are more likely to get somatoform based on family histo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od Disord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o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By: Josh Myers and Tim Maj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TextBox 3"/>
          <p:cNvSpPr/>
          <p:nvPr/>
        </p:nvSpPr>
        <p:spPr>
          <a:xfrm>
            <a:off x="2985120" y="1600200"/>
            <a:ext cx="2029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Sabes que me gusta las salchichas es de maiz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4"/>
          <p:cNvSpPr/>
          <p:nvPr/>
        </p:nvSpPr>
        <p:spPr>
          <a:xfrm>
            <a:off x="3366000" y="6642000"/>
            <a:ext cx="2029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Sabes que me gusta las salchichas es de maiz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o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od disorder is a mental illness that mainly affects a person's moo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press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i-pola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nic Depress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u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hat causes mood disorders / mental illnes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earchers believe most serious mental illnesses are caused by complex imbalances in the brain's chemical activity. They also believe environmental factors can play a part in triggering, or cushioning against, the onset of mental illnes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izophrenia (Psychosis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sychological Disorder Are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57200" y="12193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nxiety-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x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issociative-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x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omatoform-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x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ood-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x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chizophrenia (Psychotic)-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x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ersonality-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x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izophrenia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28600" y="190476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Definition: Schizophrenia is considered one of the most serious of the physiological disorders. It is characterized by loss of contact with reality, the symptoms include, hallucinations, delusions and thought disorders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3"/>
          <p:cNvSpPr/>
          <p:nvPr/>
        </p:nvSpPr>
        <p:spPr>
          <a:xfrm>
            <a:off x="990720" y="3809880"/>
            <a:ext cx="7315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s: Paranoid schizophrenia, often hearing voices and delusions related to a single the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organized schizophrenia, incoherent thought and speech and though, disorganiz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tatonic schizophrenia, disturbance of movement. Activity may slow to a stupor and suddenly switch to agit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USES OF SCHIZOPHRENIA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#1 psychological viewpoint, the animalistic or id, overruns the eg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#2 biological viewpoint, the disease is a brain disorder involving brain size and smaller frontal lobe. Loss of synapse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#3 Multifactoral viewpoint, is a combination of the latt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sonality Disord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62120" y="1066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Forte"/>
              </a:rPr>
              <a:t>Personality Disord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523880" y="4724280"/>
            <a:ext cx="64008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98989"/>
                </a:solidFill>
                <a:latin typeface="Calibri"/>
              </a:rPr>
              <a:t>This lovely two slide power point was done by Rachel Rivera and Ali Adsit </a:t>
            </a:r>
            <a:r>
              <a:rPr b="1" lang="en-US" sz="2000" spc="-1" strike="noStrike">
                <a:solidFill>
                  <a:srgbClr val="898989"/>
                </a:solidFill>
                <a:latin typeface="Wingdings"/>
                <a:ea typeface="Wingdings"/>
              </a:rPr>
              <a:t>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5" descr="anger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886200" y="2362320"/>
            <a:ext cx="1585800" cy="213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Forte"/>
              </a:rPr>
              <a:t>Personality Disord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patterns of inflexible traits that disrupt social life or work and/or distress the affected individua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Examples are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Paranoid, Schizoid, Schizotypal, Anti-social, Borderline, Histrionic, Narcissistic, Avoidant, Dependent, Obsessive-compuls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Forte"/>
              </a:rPr>
              <a:t>Causes of Personality Disord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Biological View states that there are a lack of neurons in the frontal part of the brain than “normal” peopl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Psychological View states that there is a problem in the development of the conscious and super eg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nxiety Disord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219320"/>
            <a:ext cx="82296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AUS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. Psychological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-Psychoanalytical Theorists (repressed childhood urge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-Learning Theorists (phobias are conditioned/learned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-Cognitive Theorists (make ourselves feel anxious by responding negatively to most situation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B. Biological (heredity…twin studies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. Interaction of Facto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nxiety disorders may reflect </a:t>
            </a:r>
            <a:r>
              <a:rPr b="0" i="1" lang="en-US" sz="2600" spc="-1" strike="noStrike">
                <a:solidFill>
                  <a:srgbClr val="000000"/>
                </a:solidFill>
                <a:latin typeface="Calibri"/>
              </a:rPr>
              <a:t>the interaction of psychological and biological factor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Calibri"/>
              </a:rPr>
              <a:t>Ex. Panic Disorder = Physical Symptoms…causes fear and leads to even more intense panic symptom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issociative Disord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finition-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amples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Dissociative disorders</a:t>
            </a:r>
            <a:br>
              <a:rPr sz="5400"/>
            </a:b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Y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ET AND MARRISCA!!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Definition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separation of certain personality components or mental process from conscious thought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ssociative amnes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ssociative fugu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ssociative identity disord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personalization disord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issociative Amnesia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dden loss of memory, usually following a particularly stressful or traumatic eve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mnesia or fugue, the person forgets disturbing imag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issociative Fugu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getting personal information and past events, and suddenly relocating form home or work and talking on a new identit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mnesia or fugue, the person forgets disturbing imag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0T18:01:46Z</dcterms:created>
  <dc:creator>BHS</dc:creator>
  <dc:description/>
  <dc:language>en-US</dc:language>
  <cp:lastModifiedBy>BHS</cp:lastModifiedBy>
  <dcterms:modified xsi:type="dcterms:W3CDTF">2010-02-19T19:14:08Z</dcterms:modified>
  <cp:revision>8</cp:revision>
  <dc:subject/>
  <dc:title>Slide 1</dc:title>
</cp:coreProperties>
</file>